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6.png" ContentType="image/png"/>
  <Override PartName="/ppt/media/image21.gif" ContentType="image/gif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20.gif" ContentType="image/gif"/>
  <Override PartName="/ppt/media/image13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533520" y="763200"/>
            <a:ext cx="670248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dt" idx="2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ftr" idx="2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 type="sldNum" idx="2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37F016-13FF-4BF4-A83B-3B737B3718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1541EB-FBFD-491D-8CB8-8C60C92ECC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9B6AD-E18A-43C3-971E-B0E0B000B0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70160" y="763560"/>
            <a:ext cx="5030640" cy="37720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38CC0-164B-4957-B86F-8FE5963F92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5A041-952A-4F19-9F3E-156037B676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352566-84FF-4585-BE22-B3668E4CCD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4376-6A71-4348-9A7C-E4A6E8F42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770A-0559-4C4F-B64C-840587F5D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9ADF-3202-4E3A-A8D6-F885F703E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C735-A701-4AFE-99D8-F9C03275C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8121-876E-4737-850E-2E664BF5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26F2-E4B0-4857-A1F2-A58004612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42A57-BE10-4894-989C-B6C8A7371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D7AF6-0CAE-4A28-9534-20709C8D3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838E-5B99-42BB-8863-30DA553C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76D47-033A-493F-A66A-7A6599DC7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A0D8-FDCF-46F8-AA1F-F502CB5AD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84BA-599A-4B33-9C96-0E2520B09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D21DE-0829-4790-B4D3-CFAC7111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ABBD-C341-4AC9-90C0-190BD198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73059-B3D5-41DE-AC7A-7751A7B1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A720-52F1-4E70-9777-F910CD33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9B6F-FC00-4507-9566-0B4DA4B5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0C9DB-E608-4EE3-9B0F-D0FB90F6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0718B-48B1-43C3-9E1E-DD7FD6E84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2B4A2-D300-48D6-A79B-131A03E8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0DBF2-04A7-40BF-8530-D387EE65B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8E757-CA32-466B-9566-87B94FF4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5FC3-F463-4F56-AF22-513B83B5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B6BC9-815A-41B6-B309-B8C113B5A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A670C-38E0-43A6-B72A-2D631FC88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BEDB2-6357-4B8E-AC7B-0BA4F0CB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1ED22-5E86-4106-9DE5-9FBB4F117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ADD7E-C14F-4135-914D-96CF16F2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1B744-708F-465A-9D58-0EE61DE6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C1160-F11F-4966-BC31-09B3ADBC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BCFF7-D507-4A4F-941D-C6EA7938E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72DC9-9835-4A90-8D29-C1977F71F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D34B0-614F-45D2-828A-AA9E5571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A2438-F97D-462C-80A0-37BF40C1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54750-B3F1-45F0-BDD0-665AB0C9E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7B52A5-71B4-4D9C-BA88-DCDDE1E4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366317-76A3-4FA1-87D1-15985AB56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2BF67-E532-4788-8431-E2076E35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34885-85E4-4AFF-9356-DBDBA970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B9D56-7E71-4CD6-8B3F-61151E3D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1AA829-172F-4738-8499-68A7DE1D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0BC11-96EC-41D8-ADEC-4BEB5A95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1020D1-2C75-4302-8938-09ABD4FEB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E32F8-5AD0-4BFD-8219-19675B19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BC63-1940-4ECC-BFE3-FFB2D309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43D78-B33C-4507-9855-EEDD275A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9ADE7-23FA-495C-8557-F039DCFC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EA448-37DB-404F-99E2-69611F903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47850-190D-4E7B-8163-657E11498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63528-3227-4067-B30A-AAFC59A9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AF4489-A2AC-4CF1-A15C-86F48005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9658E-DEF9-496F-B305-94E29CAB4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7F229-2E4C-4AC0-BE6C-AAE6B79B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8635D-72E9-47B0-9D24-0493D992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F67B6-F000-4B0C-8BDD-7ABBEFC15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241E-2EBA-4127-9D94-C30C6493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290B6-EDF1-470A-B8A8-2CBB59B82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067AD-7897-451F-BB7F-D79F46118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50CF87-14C6-4FD5-B592-E0C3D371B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D6ED8-0E71-4AF1-94F3-B815C34A0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6C54B-639B-4892-A574-20B0D4412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B7267-E0AA-4B57-B84C-9C253559F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1C8605-7811-4584-990F-59A076DEA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631BF-1C9B-44EB-855D-6DCA38686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FE5C64-8662-4435-8D39-6AE8272D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60A975-91EC-4205-A51C-F4E46634F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BE3F-1793-4C86-958A-2E1234AF1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A2C78-8791-44CD-B086-F4373619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1D6AC-43BF-4B99-BE2B-AE075C68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8B6DC-0255-4841-B72B-775E1247E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07FE9E-962B-408B-8700-A6069B65DE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89B564-3379-4B0B-9E85-0515ED43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210C06-3883-4CE5-9F99-251E98435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FD5082-040C-495E-9275-E5E4FB17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FD0B30F-39DE-4E6B-96DB-EB300B7C3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D9FFCF0-0575-4D3E-ADA6-BF6574BF5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5A50FB-DE3D-4901-807A-1F65F03A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D816-6197-4EC4-803F-D33F0889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666B96-AD9C-443E-A372-74AED7D5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1A5FF2-1C3A-41A5-931B-413D1F5FE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DC4F8C-B920-498D-B4AA-7F8B497C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D24388-0188-458F-952C-266A9B372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533D0F-BA2A-470B-99D4-A3E06D22568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B8A2-F0B0-4D94-8A24-F1B02095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D0D92E-30B1-4F00-B172-7A33AC8908F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e0736"/>
              </a:gs>
              <a:gs pos="50000">
                <a:srgbClr val="d75379"/>
              </a:gs>
              <a:gs pos="100000">
                <a:srgbClr val="8e0736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5"/>
            <p:cNvSpPr/>
            <p:nvPr/>
          </p:nvSpPr>
          <p:spPr>
            <a:xfrm>
              <a:off x="1694520" y="4952880"/>
              <a:ext cx="7449480" cy="48744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8a2a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920"/>
              <a:ext cx="9098640" cy="789120"/>
            </a:xfrm>
            <a:custGeom>
              <a:avLst/>
              <a:gdLst>
                <a:gd name="textAreaLeft" fmla="*/ 0 w 9098640"/>
                <a:gd name="textAreaRight" fmla="*/ 9099000 w 9098640"/>
                <a:gd name="textAreaTop" fmla="*/ 0 h 789120"/>
                <a:gd name="textAreaBottom" fmla="*/ 789480 h 7891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8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2" name="Полилиния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19" descr=""/>
            <p:cNvPicPr/>
            <p:nvPr/>
          </p:nvPicPr>
          <p:blipFill>
            <a:blip r:embed="rId4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2AFD60-0921-410A-B1EF-0793BE93E66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1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D38536-FF2D-4F26-B656-91A667694CA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CAAA56-F6AB-40DD-83EF-FA74C2A69E1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D4D64B-A8F1-4F32-B28D-A063DB0F791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Полилиния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Полилиния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Прямоугольный треугольник 15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30" name="Прямоугольный треугольник 15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2" name="Прямая соединительная линия 16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33" name="Нашивка 18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ашивка 19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e224e"/>
              </a:gs>
              <a:gs pos="100000">
                <a:srgbClr val="d78499"/>
              </a:gs>
            </a:gsLst>
            <a:lin ang="16200000"/>
          </a:gradFill>
          <a:ln cap="rnd" w="3240">
            <a:solidFill>
              <a:srgbClr val="862a4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5707C5-A185-42C2-8096-93A87AEAC5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Полилиния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8a2a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Полилиния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Прямоугольный треугольник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7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b13f9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b83d68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ac66bb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486867-137A-4021-A47D-08D144A7C2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Rectangle 1" descr=""/>
          <p:cNvPicPr/>
          <p:nvPr/>
        </p:nvPicPr>
        <p:blipFill>
          <a:blip r:embed="rId1"/>
          <a:stretch/>
        </p:blipFill>
        <p:spPr>
          <a:xfrm>
            <a:off x="689040" y="1249200"/>
            <a:ext cx="7772400" cy="2590920"/>
          </a:xfrm>
          <a:prstGeom prst="rect">
            <a:avLst/>
          </a:prstGeom>
          <a:ln w="0">
            <a:noFill/>
          </a:ln>
        </p:spPr>
      </p:pic>
      <p:sp>
        <p:nvSpPr>
          <p:cNvPr id="330" name="TextBox 1"/>
          <p:cNvSpPr/>
          <p:nvPr/>
        </p:nvSpPr>
        <p:spPr>
          <a:xfrm>
            <a:off x="5735160" y="5889600"/>
            <a:ext cx="324396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 «НОС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начальных класс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оровенко Е.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080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ая особенность такого вида вязания - использование рук в качестве инструмента вязания, вместо привычных спиц. При помощи такой необычной техники можно связать  изделие большого размера из ниток большого диаметра, например, шарф, покрывало или плед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53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" descr="C:\Users\малыш\Елена\вяжем\технолог\работа\m-_B8gSRtkA.jpg"/>
          <p:cNvPicPr/>
          <p:nvPr/>
        </p:nvPicPr>
        <p:blipFill>
          <a:blip r:embed="rId2"/>
          <a:stretch/>
        </p:blipFill>
        <p:spPr>
          <a:xfrm>
            <a:off x="2700360" y="3645000"/>
            <a:ext cx="4319640" cy="25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просы обучения и воспитания слепых и слабовидящих: Сб. науч. трудов. / Под ред. А.Г. Литвака. — Л., 1981. — 122 с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вязания электронный ресурс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 http://www.myjane.ru/articles/text/?id=257 , - 2017. - 02.02.2017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дратов А.М. Восстановление трудоспособности слепых: Учебно-методическое пособие.— М.: Из-во ВОС, 1976.—143 с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агин Ю.А. Восприятие средств наглядности учащимися школы слепых.— М.: Просвещение, 1969.—Гл. IV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вак А.Г. Теоретические вопросы тифлопсихологии: Учеб. Пособие.— Л.: ЛГПИ им. А.И. Герцена, 1973.—155 с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ва Л.И. Модели интегрированного обучения детей с нарушениями зрения //Дефектология. - 1997.- № 2.- С. 8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моленко А.В. Осязание в процессе познания и труда.— М.: Из-во АПН РСФСР, 1959.—Гл. 1.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56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Дата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6" descr="https://st.stranamam.ru/data/cache/2017nov/01/09/23266824_88570.jpg"/>
          <p:cNvPicPr/>
          <p:nvPr/>
        </p:nvPicPr>
        <p:blipFill>
          <a:blip r:embed="rId1"/>
          <a:stretch/>
        </p:blipFill>
        <p:spPr>
          <a:xfrm>
            <a:off x="539640" y="3876840"/>
            <a:ext cx="2087640" cy="20872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6" descr="https://st.stranamam.ru/data/cache/2017nov/01/09/23266824_88570.jpg"/>
          <p:cNvPicPr/>
          <p:nvPr/>
        </p:nvPicPr>
        <p:blipFill>
          <a:blip r:embed="rId2"/>
          <a:stretch/>
        </p:blipFill>
        <p:spPr>
          <a:xfrm>
            <a:off x="6804000" y="4005360"/>
            <a:ext cx="2063880" cy="206352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8" descr="https://www.chitalnya.ru/upload2/365/58c09ef93bbd623991f906f72d3b7ade.jpg"/>
          <p:cNvPicPr/>
          <p:nvPr/>
        </p:nvPicPr>
        <p:blipFill>
          <a:blip r:embed="rId3"/>
          <a:stretch/>
        </p:blipFill>
        <p:spPr>
          <a:xfrm>
            <a:off x="1258920" y="2133720"/>
            <a:ext cx="73645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1"/>
          <p:cNvSpPr/>
          <p:nvPr/>
        </p:nvSpPr>
        <p:spPr>
          <a:xfrm>
            <a:off x="611280" y="620640"/>
            <a:ext cx="8064360" cy="46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«Истоки и дарования детей на кончиках пальцев. От пальцев, образно говоря, идут тончайшие нити-ручейки, которые питают источник творческой мысли». Другими словами, чем больше мастерства в детской руке, тем умнее ребёнок.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                           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В.А. Сухомлин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Конечно, в процессе освоения творческой деятельности любые дети сталкиваются со сложностями, а мы в свою очередь их поправляем и помогаем. Но есть категория слепых и слабовидящих детей, которым особенно нужна не тольк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наша  физическая помощь, но и моральная поддержка, вера в их способнос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Необходимо только помочь таким детям поверить в свои силы, раскрыть их возможности, дать нужные зн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539280" y="836280"/>
            <a:ext cx="8147160" cy="5040360"/>
          </a:xfrm>
          <a:prstGeom prst="rect">
            <a:avLst/>
          </a:prstGeom>
          <a:noFill/>
          <a:ln w="9360">
            <a:solidFill>
              <a:srgbClr val="d488c5"/>
            </a:solidFill>
            <a:miter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дети с нарушениями зрения нуждаются в развитии мелкой моторики, т. к. хорошо развитые движения и тактильная чувствительность пальцев в значительной степени компенсирует недостаточность зрения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ю занятий по развитию мелкой моторики является формирование у детей с нарушением зрения умений и навыков осязательного восприятия предметов и явлений окружающего мира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Дата 2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100" spc="-1" strike="noStrike">
              <a:solidFill>
                <a:srgbClr val="b13f9a"/>
              </a:solidFill>
              <a:latin typeface="Lucida Sans Unicode"/>
            </a:endParaRPr>
          </a:p>
        </p:txBody>
      </p:sp>
      <p:sp>
        <p:nvSpPr>
          <p:cNvPr id="33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1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Центром всей учебно-воспитательной работы является трудовое воспитание учащихся. Дети занимаются самыми разнообразными видами практической деятельности, имеющими общественно-полезное зна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684360" y="2133360"/>
            <a:ext cx="7858080" cy="1803240"/>
          </a:xfrm>
          <a:prstGeom prst="rect">
            <a:avLst/>
          </a:prstGeom>
          <a:noFill/>
          <a:ln w="9360">
            <a:solidFill>
              <a:srgbClr val="d488c5"/>
            </a:solidFill>
            <a:miter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2754"/>
                </a:solidFill>
                <a:latin typeface="Arial"/>
                <a:ea typeface="Arial"/>
              </a:rPr>
              <a:t>ВАШЕМУ ВНИМАНИЮ ПРЕДЛАГАЮ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72754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772754"/>
                </a:solidFill>
                <a:latin typeface="Arial"/>
                <a:ea typeface="Arial"/>
              </a:rPr>
              <a:t>СЛЕДУЮЩИЕ ВИДЫ РУЧНОГО ТРУДА С ДЕТЬМИ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Заголовок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05000"/>
          </a:xfrm>
          <a:prstGeom prst="rect">
            <a:avLst/>
          </a:prstGeom>
          <a:ln w="0">
            <a:noFill/>
          </a:ln>
        </p:spPr>
      </p:pic>
      <p:sp>
        <p:nvSpPr>
          <p:cNvPr id="339" name="Дата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Содержимое 6" descr="Как слепить гусеницу из пластилина поэтапно - шаг 1"/>
          <p:cNvPicPr/>
          <p:nvPr/>
        </p:nvPicPr>
        <p:blipFill>
          <a:blip r:embed="rId2"/>
          <a:srcRect l="0" t="0" r="0" b="11642"/>
          <a:stretch/>
        </p:blipFill>
        <p:spPr>
          <a:xfrm>
            <a:off x="928800" y="1500120"/>
            <a:ext cx="2928960" cy="1805040"/>
          </a:xfrm>
          <a:prstGeom prst="rect">
            <a:avLst/>
          </a:prstGeom>
          <a:ln w="0">
            <a:noFill/>
          </a:ln>
        </p:spPr>
      </p:pic>
      <p:pic>
        <p:nvPicPr>
          <p:cNvPr id="341" name="Рисунок 7" descr="Как слепить гусеницу из пластилина поэтапно - шаг 2"/>
          <p:cNvPicPr/>
          <p:nvPr/>
        </p:nvPicPr>
        <p:blipFill>
          <a:blip r:embed="rId3"/>
          <a:srcRect l="0" t="0" r="0" b="11584"/>
          <a:stretch/>
        </p:blipFill>
        <p:spPr>
          <a:xfrm>
            <a:off x="5000760" y="1500120"/>
            <a:ext cx="3071520" cy="1785960"/>
          </a:xfrm>
          <a:prstGeom prst="rect">
            <a:avLst/>
          </a:prstGeom>
          <a:ln w="0">
            <a:noFill/>
          </a:ln>
        </p:spPr>
      </p:pic>
      <p:pic>
        <p:nvPicPr>
          <p:cNvPr id="342" name="Рисунок 8" descr="Гусеница своими руками: как сделать поделку из цветной бумаги, носка,  пластилина | Все о рукоделии"/>
          <p:cNvPicPr/>
          <p:nvPr/>
        </p:nvPicPr>
        <p:blipFill>
          <a:blip r:embed="rId4"/>
          <a:stretch/>
        </p:blipFill>
        <p:spPr>
          <a:xfrm>
            <a:off x="2786040" y="3857760"/>
            <a:ext cx="40719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ка, которая еще называется рисование нитью. В ее основе лежит последовательное заполнение контуров выбранных изображений при помощи шнурков либо толстых ниток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b83d68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44" name="Заголовок 2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139760"/>
          </a:xfrm>
          <a:prstGeom prst="rect">
            <a:avLst/>
          </a:prstGeom>
          <a:ln w="0">
            <a:noFill/>
          </a:ln>
        </p:spPr>
      </p:pic>
      <p:sp>
        <p:nvSpPr>
          <p:cNvPr id="345" name="Дата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/25/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Рисунок 4" descr="https://www.maam.ru/upload/blogs/detsad-251176-1516444953.jpg"/>
          <p:cNvPicPr/>
          <p:nvPr/>
        </p:nvPicPr>
        <p:blipFill>
          <a:blip r:embed="rId2"/>
          <a:srcRect l="17633" t="36428" r="8455" b="4967"/>
          <a:stretch/>
        </p:blipFill>
        <p:spPr>
          <a:xfrm>
            <a:off x="642960" y="2857680"/>
            <a:ext cx="2914560" cy="1828800"/>
          </a:xfrm>
          <a:prstGeom prst="rect">
            <a:avLst/>
          </a:prstGeom>
          <a:ln w="0">
            <a:noFill/>
          </a:ln>
        </p:spPr>
      </p:pic>
      <p:pic>
        <p:nvPicPr>
          <p:cNvPr id="347" name="Рисунок 5" descr="C:\Users\User\Pictures\20201015_122204.jpg"/>
          <p:cNvPicPr/>
          <p:nvPr/>
        </p:nvPicPr>
        <p:blipFill>
          <a:blip r:embed="rId3"/>
          <a:srcRect l="22822" t="13887" r="7112" b="20602"/>
          <a:stretch/>
        </p:blipFill>
        <p:spPr>
          <a:xfrm>
            <a:off x="3786120" y="2643120"/>
            <a:ext cx="1984320" cy="253368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6" descr="Поделки из ниток. Помпоны, пряжа, изонить, ниткография в старшей группе -  Страница 2. Воспитателям детских садов, школьным учителям и педагогам -  Маам.ру"/>
          <p:cNvPicPr/>
          <p:nvPr/>
        </p:nvPicPr>
        <p:blipFill>
          <a:blip r:embed="rId4"/>
          <a:srcRect l="15813" t="2817" r="34389" b="66969"/>
          <a:stretch/>
        </p:blipFill>
        <p:spPr>
          <a:xfrm>
            <a:off x="6000840" y="2857680"/>
            <a:ext cx="2786040" cy="17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Rectang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06360"/>
          </a:xfrm>
          <a:prstGeom prst="rect">
            <a:avLst/>
          </a:prstGeom>
          <a:ln w="0">
            <a:noFill/>
          </a:ln>
        </p:spPr>
      </p:pic>
      <p:sp>
        <p:nvSpPr>
          <p:cNvPr id="350" name="Прямоугольник 1"/>
          <p:cNvSpPr/>
          <p:nvPr/>
        </p:nvSpPr>
        <p:spPr>
          <a:xfrm>
            <a:off x="468360" y="1341360"/>
            <a:ext cx="77040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этим видом работы справляются как слабовидящие дети, так и слепые. Простое перекатывание бусин или бисера на кончиках пальцев дает хороший результа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icture 4" descr=""/>
          <p:cNvPicPr/>
          <p:nvPr/>
        </p:nvPicPr>
        <p:blipFill>
          <a:blip r:embed="rId2"/>
          <a:stretch/>
        </p:blipFill>
        <p:spPr>
          <a:xfrm>
            <a:off x="2987640" y="2852640"/>
            <a:ext cx="3537000" cy="3032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2-24T23:28:26Z</dcterms:created>
  <dc:creator>User</dc:creator>
  <dc:description/>
  <dc:language>en-US</dc:language>
  <cp:lastModifiedBy>малыш</cp:lastModifiedBy>
  <dcterms:modified xsi:type="dcterms:W3CDTF">2021-10-10T11:29:04Z</dcterms:modified>
  <cp:revision>61</cp:revision>
  <dc:subject/>
  <dc:title>«Руки как инструмент познания окружающего мира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0</vt:r8>
  </property>
  <property fmtid="{D5CDD505-2E9C-101B-9397-08002B2CF9AE}" pid="3" name="HyperlinksChanged">
    <vt:bool>0</vt:bool>
  </property>
  <property fmtid="{D5CDD505-2E9C-101B-9397-08002B2CF9AE}" pid="4" name="LinksUpToDate">
    <vt:bool>0</vt:bool>
  </property>
  <property fmtid="{D5CDD505-2E9C-101B-9397-08002B2CF9AE}" pid="5" name="MMClips">
    <vt:r8>0</vt:r8>
  </property>
  <property fmtid="{D5CDD505-2E9C-101B-9397-08002B2CF9AE}" pid="6" name="Notes">
    <vt:r8>0</vt:r8>
  </property>
  <property fmtid="{D5CDD505-2E9C-101B-9397-08002B2CF9AE}" pid="7" name="PresentationFormat">
    <vt:lpwstr>Экран (4:3)</vt:lpwstr>
  </property>
  <property fmtid="{D5CDD505-2E9C-101B-9397-08002B2CF9AE}" pid="8" name="ScaleCrop">
    <vt:bool>0</vt:bool>
  </property>
  <property fmtid="{D5CDD505-2E9C-101B-9397-08002B2CF9AE}" pid="9" name="ShareDoc">
    <vt:bool>0</vt:bool>
  </property>
  <property fmtid="{D5CDD505-2E9C-101B-9397-08002B2CF9AE}" pid="10" name="Slides">
    <vt:r8>6</vt:r8>
  </property>
</Properties>
</file>